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F6DD-B714-4316-B7AB-90349C3B1E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йте этот шаблон для создания страниц рабочей группы или проекта в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интрасе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 Измените содержание, добавив свою информацию. Можно также изменить структуру узла, добавив или удалив слайды.  Элементы управления перемещением по страницам находятся в образце слайдов.  Чтобы изменить их, выберите пунк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е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 меню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выполните команду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зец слайд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 Чтобы добавить, удалить или изменить </a:t>
            </a: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гиперссыл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ыберите текст или объект, а затем выполните команду </a:t>
            </a:r>
            <a:r>
              <a:rPr b="1" sz="1200" spc="-1" strike="noStrike">
                <a:solidFill>
                  <a:srgbClr val="000000"/>
                </a:solidFill>
                <a:latin typeface="Times New Roman"/>
              </a:rPr>
              <a:t>Гиперссыл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 меню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тав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завершения работы над узлом удалите эти заметки для уменьшения размера готовых HTML-фай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ые сведения можно получить у мастера ответов по следующим запрос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слай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Гиперссыл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5DE-4460-4A96-971F-E17C4E2E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FAF-5197-4AE5-AAF6-F1F03C48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88D-63DA-4C04-9914-B649AB8C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9196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17400" y="16761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66652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79196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17400" y="4183560"/>
            <a:ext cx="2023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0DF-3715-457C-B857-EA7505C2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6B3-5769-47A1-B5CA-CD829823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BF9-FF63-4488-B779-23572DA0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9E4-43F7-4372-85F4-1D656FC8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6D1-7407-4417-B1B4-5F818711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2666520" y="914040"/>
            <a:ext cx="6286680" cy="24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053-648B-4BD2-856F-23427A6B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F76-4833-4B9D-ACC0-976CF96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7800" y="41835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80D-F83F-470A-9194-E8D6C84D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652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87800" y="1676160"/>
            <a:ext cx="30675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666520" y="4183560"/>
            <a:ext cx="6286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D10-628E-43AD-9A4D-25586055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" Target="slide8.xml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2476440" cy="63244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629400"/>
            <a:ext cx="247644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476440" cy="30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76440" y="0"/>
            <a:ext cx="6666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6627960"/>
            <a:ext cx="6667560" cy="2300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6921360" y="6629040"/>
            <a:ext cx="19051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9cc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476080" y="6629040"/>
            <a:ext cx="44449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9cc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8826480" y="6629040"/>
            <a:ext cx="31752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9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B114-B54B-41B5-8EEF-B995F729213D}" type="slidenum">
              <a:rPr b="0" lang="ru-RU" sz="10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rId2" action="ppaction://hlinksldjump"/>
          </p:cNvPr>
          <p:cNvSpPr/>
          <p:nvPr/>
        </p:nvSpPr>
        <p:spPr>
          <a:xfrm>
            <a:off x="127080" y="457200"/>
            <a:ext cx="2222280" cy="7621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666880" y="0"/>
            <a:ext cx="647712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Генеалогическое дерево Жандармова Волод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2540160" y="1347840"/>
            <a:ext cx="6603840" cy="100080"/>
            <a:chOff x="2540160" y="1347840"/>
            <a:chExt cx="6603840" cy="100080"/>
          </a:xfrm>
        </p:grpSpPr>
        <p:sp>
          <p:nvSpPr>
            <p:cNvPr id="11" name=""/>
            <p:cNvSpPr/>
            <p:nvPr/>
          </p:nvSpPr>
          <p:spPr>
            <a:xfrm>
              <a:off x="2540160" y="134784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540160" y="137160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>
            <a:hlinkClick r:id="rId3" action="ppaction://hlinksldjump"/>
          </p:cNvPr>
          <p:cNvSpPr/>
          <p:nvPr/>
        </p:nvSpPr>
        <p:spPr>
          <a:xfrm>
            <a:off x="-152280" y="2895480"/>
            <a:ext cx="253980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cc00"/>
                </a:solidFill>
                <a:latin typeface="Times New Roman"/>
              </a:rPr>
              <a:t>Чернен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>
            <a:hlinkClick r:id="rId4" action="ppaction://hlinksldjump"/>
          </p:cNvPr>
          <p:cNvSpPr/>
          <p:nvPr/>
        </p:nvSpPr>
        <p:spPr>
          <a:xfrm>
            <a:off x="-152280" y="3352680"/>
            <a:ext cx="253980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cc00"/>
                </a:solidFill>
                <a:latin typeface="Times New Roman"/>
              </a:rPr>
              <a:t>Жеребц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>
            <a:hlinkClick r:id="rId5" action="ppaction://hlinksldjump"/>
          </p:cNvPr>
          <p:cNvSpPr/>
          <p:nvPr/>
        </p:nvSpPr>
        <p:spPr>
          <a:xfrm>
            <a:off x="-152280" y="2438280"/>
            <a:ext cx="253980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cc00"/>
                </a:solidFill>
                <a:latin typeface="Times New Roman"/>
              </a:rPr>
              <a:t>Мамина в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>
            <a:hlinkClick r:id="rId6" action="ppaction://hlinksldjump"/>
          </p:cNvPr>
          <p:cNvSpPr/>
          <p:nvPr/>
        </p:nvSpPr>
        <p:spPr>
          <a:xfrm>
            <a:off x="-152280" y="4343400"/>
            <a:ext cx="253980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cc00"/>
                </a:solidFill>
                <a:latin typeface="Times New Roman"/>
              </a:rPr>
              <a:t>Жандар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>
            <a:hlinkClick r:id="rId7" action="ppaction://hlinksldjump"/>
          </p:cNvPr>
          <p:cNvSpPr/>
          <p:nvPr/>
        </p:nvSpPr>
        <p:spPr>
          <a:xfrm>
            <a:off x="-152280" y="3809880"/>
            <a:ext cx="253980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cc00"/>
                </a:solidFill>
                <a:latin typeface="Times New Roman"/>
              </a:rPr>
              <a:t>Жос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>
            <a:hlinkClick r:id="rId8" action="ppaction://hlinksldjump"/>
          </p:cNvPr>
          <p:cNvSpPr/>
          <p:nvPr/>
        </p:nvSpPr>
        <p:spPr>
          <a:xfrm>
            <a:off x="-152280" y="1295280"/>
            <a:ext cx="2666880" cy="5335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cc00"/>
                </a:solidFill>
                <a:latin typeface="Times New Roman"/>
              </a:rPr>
              <a:t>О се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2666520" y="1676160"/>
            <a:ext cx="6286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>
            <a:hlinkClick r:id="rId9" action="ppaction://hlinksldjump"/>
          </p:cNvPr>
          <p:cNvSpPr/>
          <p:nvPr/>
        </p:nvSpPr>
        <p:spPr>
          <a:xfrm>
            <a:off x="-152280" y="1981080"/>
            <a:ext cx="2539800" cy="38412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cc00"/>
                </a:solidFill>
                <a:latin typeface="Times New Roman"/>
              </a:rPr>
              <a:t>Папина в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60;&#1086;&#1090;&#1082;&#1080;/zhandarmov.JPG" TargetMode="External"/><Relationship Id="rId2" Type="http://schemas.openxmlformats.org/officeDocument/2006/relationships/hyperlink" Target="file:///&#1060;&#1086;&#1090;&#1082;&#1080;/zhandarmov.JPG" TargetMode="Externa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zhandarmov7.jpg" TargetMode="External"/><Relationship Id="rId2" Type="http://schemas.openxmlformats.org/officeDocument/2006/relationships/hyperlink" Target="file:///zhandarmov7.jpg" TargetMode="External"/><Relationship Id="rId3" Type="http://schemas.openxmlformats.org/officeDocument/2006/relationships/hyperlink" Target="file:///zhandarmov7.jpg" TargetMode="Externa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hyperlink" Target="file:///zhandarmov17.jpg" TargetMode="External"/><Relationship Id="rId12" Type="http://schemas.openxmlformats.org/officeDocument/2006/relationships/hyperlink" Target="file:///zhandarmov17.jpg" TargetMode="External"/><Relationship Id="rId13" Type="http://schemas.openxmlformats.org/officeDocument/2006/relationships/hyperlink" Target="file:///zhandarmov17.jpg" TargetMode="External"/><Relationship Id="rId14" Type="http://schemas.openxmlformats.org/officeDocument/2006/relationships/hyperlink" Target="file:///&#1060;&#1086;&#1090;&#1082;&#1080;/q8.jpg" TargetMode="External"/><Relationship Id="rId15" Type="http://schemas.openxmlformats.org/officeDocument/2006/relationships/hyperlink" Target="file:///&#1060;&#1086;&#1090;&#1082;&#1080;/q8.jpg" TargetMode="External"/><Relationship Id="rId16" Type="http://schemas.openxmlformats.org/officeDocument/2006/relationships/hyperlink" Target="file:///&#1060;&#1086;&#1090;&#1082;&#1080;/q11.jpg" TargetMode="External"/><Relationship Id="rId17" Type="http://schemas.openxmlformats.org/officeDocument/2006/relationships/hyperlink" Target="file:///&#1060;&#1086;&#1090;&#1082;&#1080;/q5.jpg" TargetMode="External"/><Relationship Id="rId18" Type="http://schemas.openxmlformats.org/officeDocument/2006/relationships/hyperlink" Target="file:///&#1060;&#1086;&#1090;&#1082;&#1080;/q5.jpg" TargetMode="External"/><Relationship Id="rId19" Type="http://schemas.openxmlformats.org/officeDocument/2006/relationships/hyperlink" Target="file:///zhandarmov14.jpg" TargetMode="External"/><Relationship Id="rId20" Type="http://schemas.openxmlformats.org/officeDocument/2006/relationships/hyperlink" Target="file:///zhandarmov14.jpg" TargetMode="External"/><Relationship Id="rId21" Type="http://schemas.openxmlformats.org/officeDocument/2006/relationships/hyperlink" Target="file:///zhandarmov9.jpg" TargetMode="External"/><Relationship Id="rId22" Type="http://schemas.openxmlformats.org/officeDocument/2006/relationships/hyperlink" Target="file:///zhandarmov9.jpg" TargetMode="External"/><Relationship Id="rId2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752480"/>
            <a:ext cx="548640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Генеалогическое дерево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971800" y="24379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Times New Roman"/>
                <a:hlinkClick r:id="rId1" action="ppaction://hlinksldjump"/>
              </a:rPr>
              <a:t>Жандармова Волод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Жандармова Володи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92B-90F5-40EA-B00A-6FC8EFE9F1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Жандармов Володя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1523880"/>
            <a:ext cx="29336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родился 18 апреля 1997 года во Владивостоке в Краевом роддоме. Я ходил в детский сад №134, там было очень весело. Затем я поступил в 1 «Б» класс школы №46. В этой школе я люблю заниматься физкультурой, математикой и шахматами. Ещё я умею играть на гитаре, фортепьяно, на флейте и буду учиться играть на губной гармошке. Я хожу на плавание и спортивные бальные танцы. Мои самые лучшие друзья Максим, Паша, Александр и Женя. В свободное время я люблю играть на компьютере в шахматы, играть в футбол. Из продуктов я люблю сосиски в тесте, колбасу, мороженное, конфеты и сыроч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314880" cy="4419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152280" y="1295280"/>
            <a:ext cx="2682720" cy="50796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Жандармова Волод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267-9B93-4206-B750-F8F57601AF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апина вет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52280" y="1981080"/>
            <a:ext cx="2590560" cy="38124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440" y="6629400"/>
            <a:ext cx="6667560" cy="22860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cc"/>
                </a:solidFill>
                <a:latin typeface="Times New Roman"/>
              </a:rPr>
              <a:t>Дата последнего изменения: </a:t>
            </a:r>
            <a:fld id="{66B88496-DBD9-4B5B-A99D-C62A2F9F979E}" type="datetime3">
              <a:rPr b="0" i="1" lang="ru-RU" sz="1400" spc="-1" strike="noStrike">
                <a:solidFill>
                  <a:srgbClr val="ffffcc"/>
                </a:solidFill>
                <a:latin typeface="Times New Roman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0160" y="0"/>
            <a:ext cx="6603840" cy="30492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72080" y="-1143000"/>
            <a:ext cx="16002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Жандар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Волод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04.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14480" y="-11430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1143000" y="-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1143000" y="800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371600"/>
            <a:ext cx="319896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андармов Оле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6.04.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2209680"/>
            <a:ext cx="148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ндармов Вит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.02.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209680"/>
            <a:ext cx="1371600" cy="6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ребцова А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.01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390640" y="1946160"/>
            <a:ext cx="343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18360" y="19591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125840" y="3238560"/>
            <a:ext cx="227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7880" y="3238560"/>
            <a:ext cx="455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800600" y="3238560"/>
            <a:ext cx="341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00880" y="323856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5760" y="3200400"/>
            <a:ext cx="102888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шечкинаАлександ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64640" y="3200400"/>
            <a:ext cx="102852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ндармов Пёт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13-19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5960" y="3198960"/>
            <a:ext cx="1060560" cy="62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ребцов 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14-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200400"/>
            <a:ext cx="1028880" cy="62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айгер Елиза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24-19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24440" y="4227480"/>
            <a:ext cx="91440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еребцов Паве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864-19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3809880"/>
            <a:ext cx="30024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97560" y="4227480"/>
            <a:ext cx="12268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алова Александ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68-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367240" y="3809880"/>
            <a:ext cx="271440" cy="4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50960" y="4232160"/>
            <a:ext cx="963720" cy="6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фанасьева Анф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898-197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78240" y="5143680"/>
            <a:ext cx="1027080" cy="45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фанасьев Никола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278160" y="3811680"/>
            <a:ext cx="1549440" cy="41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73320" y="48099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2960" y="4227480"/>
            <a:ext cx="511200" cy="17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шечкин Прокоф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880-193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64640" y="4227480"/>
            <a:ext cx="1027080" cy="6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зин -Жандармов Михаи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35960" y="3772080"/>
            <a:ext cx="22860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935400" y="3772080"/>
            <a:ext cx="22860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07440" y="3772080"/>
            <a:ext cx="228600" cy="45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1640" y="4227480"/>
            <a:ext cx="457200" cy="17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ковья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896-19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50240" y="59436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21640" y="6286680"/>
            <a:ext cx="571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07440" y="6286680"/>
            <a:ext cx="571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ёт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36040" y="59436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3040" y="5143680"/>
            <a:ext cx="6858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10240" y="4799160"/>
            <a:ext cx="180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67240" y="4799160"/>
            <a:ext cx="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10040" y="51436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алов Ив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6760" y="4227480"/>
            <a:ext cx="1028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айгер Александ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896-194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2560" y="48006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5360" y="5143680"/>
            <a:ext cx="800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айгер Ив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192200" y="3821040"/>
            <a:ext cx="99684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49920" y="2895480"/>
            <a:ext cx="255600" cy="31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28954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086600" y="28954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Жандармова Волод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3DA-E507-497E-9E8A-8884E81787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амина ветк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152280" y="2438280"/>
            <a:ext cx="253980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447920"/>
            <a:ext cx="28576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6600"/>
                </a:solidFill>
                <a:uFillTx/>
                <a:latin typeface="Times New Roman"/>
                <a:hlinkClick r:id="rId1"/>
              </a:rPr>
              <a:t>Жосан</a:t>
            </a:r>
            <a:r>
              <a:rPr b="0" lang="ru-RU" sz="1400" spc="-1" strike="noStrike" u="sng">
                <a:solidFill>
                  <a:srgbClr val="cc6600"/>
                </a:solidFill>
                <a:uFillTx/>
                <a:latin typeface="Times New Roman"/>
                <a:hlinkClick r:id="rId2"/>
              </a:rPr>
              <a:t> Ири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c6600"/>
                </a:solidFill>
                <a:uFillTx/>
                <a:latin typeface="Times New Roman"/>
                <a:hlinkClick r:id="rId3"/>
              </a:rPr>
              <a:t>4.11.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2019240"/>
            <a:ext cx="343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5829480" y="2476440"/>
            <a:ext cx="1828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5" action="ppaction://hlinksldjump"/>
              </a:rPr>
              <a:t>Жосан</a:t>
            </a: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6" action="ppaction://hlinksldjump"/>
              </a:rPr>
              <a:t> Владим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cc6600"/>
                </a:solidFill>
                <a:uFillTx/>
                <a:latin typeface="Times New Roman"/>
                <a:hlinkClick r:id="rId7" action="ppaction://hlinksldjump"/>
              </a:rPr>
              <a:t>24.08.51-2.01.9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29680" y="3048120"/>
            <a:ext cx="45720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912920" y="2017800"/>
            <a:ext cx="459000" cy="45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8" action="ppaction://hlinksldjump"/>
          </p:cNvPr>
          <p:cNvSpPr/>
          <p:nvPr/>
        </p:nvSpPr>
        <p:spPr>
          <a:xfrm>
            <a:off x="4341960" y="2476440"/>
            <a:ext cx="14875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9" action="ppaction://hlinksldjump"/>
              </a:rPr>
              <a:t>Черненко Людми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10" action="ppaction://hlinksldjump"/>
              </a:rPr>
              <a:t>20.11.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72280" y="3048120"/>
            <a:ext cx="11412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6480" y="3619440"/>
            <a:ext cx="11458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ненко Сл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7.03.14-00.03.8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000320" y="3048120"/>
            <a:ext cx="57132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43480" y="3619440"/>
            <a:ext cx="11430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11"/>
              </a:rPr>
              <a:t>Парабина</a:t>
            </a: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12"/>
              </a:rPr>
              <a:t> Ал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cc6600"/>
                </a:solidFill>
                <a:uFillTx/>
                <a:latin typeface="Times New Roman"/>
                <a:hlinkClick r:id="rId13"/>
              </a:rPr>
              <a:t>26.02.29-00.04.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00680" y="4533840"/>
            <a:ext cx="912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14"/>
              </a:rPr>
              <a:t>Парабин</a:t>
            </a: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15"/>
              </a:rPr>
              <a:t> Пёт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02-19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98960" y="4535640"/>
            <a:ext cx="79992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йлян Зо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.0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429000" y="4191120"/>
            <a:ext cx="341280" cy="34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27480" y="4191120"/>
            <a:ext cx="34452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14880" y="5445000"/>
            <a:ext cx="7999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16"/>
              </a:rPr>
              <a:t>бабу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57240" y="5218200"/>
            <a:ext cx="11268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6246720"/>
            <a:ext cx="102708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17"/>
              </a:rPr>
              <a:t>прабабу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00680" y="6246720"/>
            <a:ext cx="102852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18"/>
              </a:rPr>
              <a:t>прадедуш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314520" y="5904000"/>
            <a:ext cx="11412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00680" y="5904000"/>
            <a:ext cx="34272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3619440"/>
            <a:ext cx="10288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19"/>
              </a:rPr>
              <a:t>Попик Татья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cc6600"/>
                </a:solidFill>
                <a:uFillTx/>
                <a:latin typeface="Times New Roman"/>
                <a:hlinkClick r:id="rId20"/>
              </a:rPr>
              <a:t>16.0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01080" y="3619440"/>
            <a:ext cx="9144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21"/>
              </a:rPr>
              <a:t>Жосан</a:t>
            </a:r>
            <a:r>
              <a:rPr b="0" lang="ru-RU" sz="1200" spc="-1" strike="noStrike" u="sng">
                <a:solidFill>
                  <a:srgbClr val="cc6600"/>
                </a:solidFill>
                <a:uFillTx/>
                <a:latin typeface="Times New Roman"/>
                <a:hlinkClick r:id="rId22"/>
              </a:rPr>
              <a:t> Никола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514920" y="3048120"/>
            <a:ext cx="11412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4533840"/>
            <a:ext cx="911160" cy="5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ненко Васи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4191120"/>
            <a:ext cx="4572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Жандармова Волод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29E-793E-47EA-B8BB-7AAD345953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666880" y="1447920"/>
            <a:ext cx="2667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Родил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24 августа 1952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Умер от сердечного приступа, когда ему был 41 го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2 января 1993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Он был папой моей мамы Ирин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Дедушка Вова был моряком в Дальневосточном морском пароходстве механик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Он любил курить и есть шашлы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Мы ходим к нему на кладбище, чтобы прибрать и навести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26160" y="1447920"/>
            <a:ext cx="4127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Жосан Владимир Николаевич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2570400" cy="3600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-152280" y="3809880"/>
            <a:ext cx="253980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245360" y="3809880"/>
            <a:ext cx="1708200" cy="26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Жандармова Волод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9E5-27CB-4530-A6DF-EBBCE9DAF7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1952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Родилас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20 ноября 1952 г.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в Мурманске, а росла в Одесс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Когда моя мама была маленькая бабушка люда работала кондитером, затем технологом в лаборатори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Когда я был маленьким бабушка училась в Академии государственной службы и теперь работает в администрации Приморского кра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Бабушка любит есть кукумарию, читать детективы и слушать как я играю на гитаре и на пианино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26160" y="1447920"/>
            <a:ext cx="4127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5360" indent="-225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520" y="762120"/>
            <a:ext cx="6286680" cy="48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ерненко Людмила Вычеславовн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156060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-152280" y="2895480"/>
            <a:ext cx="253980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238880" y="4191120"/>
            <a:ext cx="1694160" cy="22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Жандармова Волод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001-4F2C-4E1C-8C29-0D4814784D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24080" y="1447920"/>
            <a:ext cx="3200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Родилас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14 января 1947 г. </a:t>
            </a:r>
            <a:br>
              <a:rPr sz="1400"/>
            </a:b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на Волг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Сейчас заведующей и воспитательницей в детском саду на Камчатке в посёлке Оссора Карагинского райо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В молодости она много занималась спорт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У моей бабушки есть два сына (мой папа, дядя Игорь) и одна дочь (тётя Женя), два внука я и Саша, и одна внучка Веронич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Она приезжает во Владивосток редко но на долг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6160" y="1447920"/>
            <a:ext cx="4127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Жеребцова Анна Ильиничн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70600" y="3933720"/>
            <a:ext cx="1901880" cy="2603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152280" y="3352680"/>
            <a:ext cx="253980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18400" y="1447920"/>
            <a:ext cx="199224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Жандармова Волод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2A0-662F-472E-AAC7-55D8276618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19520" y="1523880"/>
            <a:ext cx="3047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Мой дедушка Витя родился  20 февраля 1948 г. на Камчат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66520" y="914040"/>
            <a:ext cx="62866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Жандармов Виктор Петрович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152280" y="4343400"/>
            <a:ext cx="2539800" cy="384120"/>
          </a:xfrm>
          <a:prstGeom prst="roundRect">
            <a:avLst>
              <a:gd name="adj" fmla="val 50000"/>
            </a:avLst>
          </a:prstGeom>
          <a:solidFill>
            <a:srgbClr val="99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886360" y="1676520"/>
            <a:ext cx="2992680" cy="435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Жандармова Володи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48A-166C-4F36-A16C-ED3A88B84A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wer</cp:lastModifiedBy>
  <dcterms:modified xsi:type="dcterms:W3CDTF">2004-04-26T00:04:3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